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71C-7094-4D98-8B58-E9286189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258-D75F-4973-AA77-BFC7A51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3AB-7552-49CA-BA50-9D3329AA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C87-2F03-4D36-96A3-55B7887A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F24-C356-490F-AD7F-91BC60AE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744C-6AD8-4562-A7DC-55C40B03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3862-A873-463E-9155-05A146F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9F7A-AE77-4DCD-BF25-E66962BB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C865-1F65-448A-9F61-D465015A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6E6-A7F3-4962-8C01-E2A8E4C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4A71-97A7-49AF-9AFC-1839078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3E3-4C68-4123-927A-36EFF739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3705-DF3D-47F6-8F1C-457E48B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2540-FEEF-492A-AED5-CE98539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D920-E4EF-4D33-A992-ABBEEDF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4515-0601-489A-9D85-78E7FFD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0180-BC68-4663-B17E-D0CAC673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1B0-79C9-4DE5-BF29-A1FEA2A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F2D-22A3-4D49-8103-0BBB6D1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627-DE9B-4B08-BF9E-48D44B6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E3C-37D7-4829-89E9-9F7B1AA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300-95DD-49E5-B330-67B06B1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9AA-FAE7-4322-95D1-B9BCFB42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619-737B-4A23-896E-63CC30E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4B11-EF08-4F7F-83A1-801F5564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26B-38DA-4002-8529-68F7C57A43B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900000" y="1071720"/>
            <a:ext cx="6858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较两种不同的电路连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580000" y="5229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803840" y="5291280"/>
            <a:ext cx="22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14240" y="107172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现象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串联灯泡较暗，并联灯泡较亮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串联时所有灯泡共同承载一节电池的电压，而并联灯泡时，每个灯泡仍旧承载一节电池的电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187280" y="69228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这节课我们学到了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50920" y="211140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电池串联时灯泡特别亮，并联时灯泡不太亮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灯泡串联时较暗，灯泡并联时较亮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1326026596_159607484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0" y="142920"/>
            <a:ext cx="9501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拓展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节日的彩灯是串联还是并联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1111111111111111"/>
          <p:cNvPicPr/>
          <p:nvPr/>
        </p:nvPicPr>
        <p:blipFill>
          <a:blip r:embed="rId2"/>
          <a:stretch/>
        </p:blipFill>
        <p:spPr>
          <a:xfrm>
            <a:off x="900000" y="1125360"/>
            <a:ext cx="770436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8571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与技能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电路的连接方式有两种：串联和并联。其中包括电池的串并联和灯泡的串并联，连接不同的电路并概括各自的特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程与方法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尝试不同的方法连接电路，并观察发现各自的特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感态度价值观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培养勇于挑战勇于实践及推断的科学态度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乐于动手操作，乐于交流的合作意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500200" y="15876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实验目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85880" y="785880"/>
            <a:ext cx="7858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实验注意事项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小组内分工合作，注意观察，做好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实验时不可将导线直接接在电池的正负极上，以免发生危险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电池串并联时注意正负极的连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观察操作时脸部不可在电池或灯泡的正上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785880"/>
            <a:ext cx="7858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实验步骤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依次连接电池串并联电路，观察并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比较电池串并联的特点并分析原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依次连接灯泡串并联电路注意观察并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比较灯泡串并联的特点并分析原因。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收交试验记录单，整理实验器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灯座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导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装不同的电路，让小灯泡亮起来，看看有几种不同的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00120" y="571680"/>
            <a:ext cx="521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电池串并联实验器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1703d.jpg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500040" y="785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现象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电池串联时灯泡很亮，电池并联时灯泡不太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节电池的电压时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5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两节电池串联起来的电压是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所以灯泡会特别亮。两节电池并联起来，电压还是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5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所以小灯泡不太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灯座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导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装不同的电路，让小灯泡亮起来，看看有几种不同的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928880" y="404640"/>
            <a:ext cx="507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灯泡串并联实验器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17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292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1702d.jpg"/>
          <p:cNvPicPr/>
          <p:nvPr/>
        </p:nvPicPr>
        <p:blipFill>
          <a:blip r:embed="rId3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0:06:16Z</dcterms:created>
  <dc:creator/>
  <dc:description/>
  <dc:language>en-US</dc:language>
  <cp:lastModifiedBy/>
  <dcterms:modified xsi:type="dcterms:W3CDTF">2020-02-18T04:38:27Z</dcterms:modified>
  <cp:revision>174</cp:revision>
  <dc:subject/>
  <dc:title/>
</cp:coreProperties>
</file>